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453-7C74-4A62-AFAC-C6D710A9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214-DBA9-4914-86DA-3AA66F7A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FFD-1ADE-4604-8F01-7DBA19F2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640-87D0-4C3F-8999-2CC55F27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4D3-DF5F-4395-904E-6F7EA940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53D-8B51-4672-8C98-11923E15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360-D6F9-40A1-A58A-02387D01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DD6-62FA-487E-90F0-984D7155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C24-DC75-4E30-B7F4-59D1834E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7AF-129E-458C-B556-7DBC3ABD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915-6854-4741-9156-C1C8EE97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442-259E-489B-8EFF-3F472A4A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D26C-1E78-4EBC-8F19-7F2598520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dren’s Misconceptions in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ildren come to science teaching with ideas about most phenomena with which they have any experience. Many of these ideas are wrong when compared to standard science understand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5:39:47Z</dcterms:created>
  <dc:creator>Edward Robeck</dc:creator>
  <dc:description/>
  <dc:language>en-US</dc:language>
  <cp:lastModifiedBy>Information Technology</cp:lastModifiedBy>
  <dcterms:modified xsi:type="dcterms:W3CDTF">2009-11-01T18:43:09Z</dcterms:modified>
  <cp:revision>53</cp:revision>
  <dc:subject/>
  <dc:title>Children’s Misconceptions in Science</dc:title>
</cp:coreProperties>
</file>